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CB7-8265-44D0-B07C-A55DB461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BAA-8D88-465A-B833-D74ED120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A64-E829-441D-BEDA-A9DB3FCF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911-51F2-4BC0-A952-F16C2495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F904-8B46-4E07-8272-95CBFB74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E121-0E35-424D-80E0-CB270FC4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512E-F918-4E8E-9B04-9C9C317C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4FB5-093B-49B4-A516-D9A0FFD3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16FE-B093-45DD-89DF-1158A788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2A3C-8CEF-4E99-A758-37B3CF81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5C2E-33A5-4E74-8244-DC18877D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33E-2803-4551-A5A6-DC0FD8E9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5719-7296-437D-9B00-717B5634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04CD-83BA-4BFC-B640-3E2857F4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DF45-BA3D-456A-AD6A-70AD38D5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1732-5373-4932-91C0-B46D13DD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53A1-967A-4F88-B7D8-4320F675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15AC-289B-4C42-BDD4-FE8DD574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3640-D1FF-46E3-A8B0-92C4757A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14FED-0D4E-4085-8E85-1F00CFED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CDD6-E30A-4DB8-A40F-3A00821C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7C76-8059-47F8-8318-0E0834D7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E8C-7F61-4565-86B5-95C2A05A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3B8A-0226-4A36-8C25-E4187A1C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B3DC-8DBE-44FE-A948-4EBD1363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3332-50EE-4791-955A-1427B253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C6263-8E43-4E92-89AF-0C439168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034B-18C9-4B0C-BD0F-A0A571E7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7ACD-75D1-4C2D-822D-E1829C6A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82E81-4174-416C-A1C8-32C6AB88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27591-0D32-4D9A-A1AC-8C384F71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7AD10-01DE-4F23-B4D5-8376EA30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F2A36-C5F6-4FC7-A175-A13D39FD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D1D-BE93-4FBC-ADBA-93242651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E4E19-EE58-4608-850B-0DD5CCC6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14AC8-A2B6-4019-8996-A023388D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16EC5-E89F-4AFC-A858-26381C39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B1D77-7CED-4FCB-966D-6A70FC26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F52C2-E6CA-4FEA-B487-430CC0DF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9F8D7-5141-4111-8403-0B9A978F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451F4-1548-4BD7-B1DF-6B638D91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3189A-9B61-41E7-9006-AD0B1583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B0061-E33A-45C0-BE15-C6B8FA12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E5041-53CC-4DEC-A070-D090FD9C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4FF-F6DB-4F5A-9D7E-25EAB98D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2BFE6-936F-43AF-B6C8-CB8423D1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B11E8-93E4-4CCA-9416-79EA670D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4AC2F-8BCB-48A6-9E96-006DE95C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750A9-E323-435F-B963-6A7D8B6C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68252-5463-4B19-9AC0-D446C39B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E6848-3E6E-4510-B6E4-EC94AD50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30707-6C44-428A-85C7-97466454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B9669-73EA-4630-9154-58EDF904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87C50-61A8-4ECB-B75B-C01F2D23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F689C-4120-4882-B8B0-09DD3E09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7DF-79C7-4A2F-97DC-97824482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B83E0-7650-4DF4-B3DE-A82BF2E4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E66D6-D8AB-491B-BA89-15CB59DC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0D1B3-B955-4CF3-B299-A74A6E23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3311E-C6CC-4E96-B652-4052FE16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98764-7269-446F-821C-130C4E57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39056-5D17-49B6-ABAD-ABF51565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2DB5-E4AC-4F1E-BE05-7D5BF372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E28D7-9D81-4E4D-BB77-3FFF66B5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DA04-6A13-43DE-80A9-E3E62879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CFBE9-62C7-422A-B6BD-4CDB6B5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A8F-E879-459E-864A-32A91D26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55CBD-CE31-44FB-965C-3A56BD17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94386-056E-4774-95BA-EB57B436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65EDE-E5B2-4EC1-A416-3BC49A5E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545-7A00-4EDB-A9A4-DBC66254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517-3A37-43AE-BFFE-B867C50A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AA5B-3712-4485-9B62-727772634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DBE5-FAD4-4840-BDAA-DEB9B51FF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E8AB-3D32-423D-B341-65EAF515A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094C-D4BF-41A5-B4B8-8D106F4E7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1F9D-9E6C-457E-ABCD-B0A36581E1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5C78-1BB6-4688-8DCB-E1A15F7387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flashnewstoday.com/wp-content/uploads/2010/07/polluted-water.jpg&amp;imgrefurl=http://flashnewstoday.com/index.php/waters-of-polluted-chinese-river-to-reach-russian-border-on-august-4/&amp;usg=__hneDgzLApoKgkG5f5aR_mS5NOzo=&amp;h=340&amp;w=600&amp;sz=81&amp;hl=en&amp;start=8&amp;sig2=F7Vsr7MY-NTDbUZZ1MiwxQ&amp;zoom=1&amp;itbs=1&amp;tbnid=3nFknu0dj6_ZXM:&amp;tbnh=77&amp;tbnw=135&amp;prev=/images%3Fq%3Dpolluted%2Brivers%2Bin%2Brussia%26hl%3Den%26safe%3Dactive%26gbv%3D2%26tbs%3Disch:1&amp;ei=BnoHTcX_BeqynAfynIjgDQ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viro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hael and Jim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Pollution in Russia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past, the Soviet Union trained their army without caring about the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xic waste in ri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sticides and heavy metals poisoned s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il spills happened a lot but they were never cleaned 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dioactive waste in rivers and s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p water is dirty because it comes from polluted ri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al-burning factories release chemicals into the ai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90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971800" cy="2438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80880" y="27885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al-burning factories in 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33920" y="396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irds in Russia dying from oil sp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80880" y="5637240"/>
            <a:ext cx="289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bandoned houses on Techa River in Russia, severely contaminated by radioactive was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3581280" y="4495680"/>
            <a:ext cx="3743280" cy="2057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315200" y="4572000"/>
            <a:ext cx="144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ctories release chemicals into the air, which is bad for the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eaning Efforts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tle money to help with the cleaning eff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ess is s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are working on solutions- planted trees, research on household detergents that help polluted ri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ing to clean up Lake Baikal, the world’s most ancient l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886200" cy="236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57200" y="30474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ikal Seal, the lake’s top predator, could be harmed by polluted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4286160" cy="3505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267080" y="396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ussian workers clean up an oil spill in the Black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3581280" cy="2514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191120" y="5410080"/>
            <a:ext cx="31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Paper mill that has been polluting Lake Baikal for over 40 years is being shut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Affect on People and Animals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56840" y="1980720"/>
            <a:ext cx="4040280" cy="1987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456840" y="4106520"/>
            <a:ext cx="4040280" cy="1989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live in environmental wastelands created by past gener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ndangered animals because their habitat is being destroyed, such as blue whales, tigers, snow leopards, and sea ot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457200" y="38862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22:49Z</dcterms:created>
  <dc:creator> </dc:creator>
  <dc:description/>
  <dc:language>en-US</dc:language>
  <cp:lastModifiedBy>Jeffrey Zisk</cp:lastModifiedBy>
  <dcterms:modified xsi:type="dcterms:W3CDTF">2010-12-15T21:30:49Z</dcterms:modified>
  <cp:revision>7</cp:revision>
  <dc:subject/>
  <dc:title>Environment</dc:title>
</cp:coreProperties>
</file>